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A4E-512F-46D1-8475-A3AC629B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AB8-B8C8-4EAA-9608-243B179F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BC7E-AEE4-4AF6-B933-BBDBC637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307-326A-47F3-900A-798275A8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1DC-79EF-4318-A3F2-11E11C33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462-4D47-4AFD-9FED-53CD4734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CA6-FB55-49FF-9274-791DC10B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A72-D04E-4C40-B884-0FE08302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579-5602-4AB6-93DE-325310A1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E6F-A796-4337-9101-D3948201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00A-8907-4B86-B81D-CD4BD06C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568-096C-49D2-A5C1-27A39D1A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9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68BF-1D8A-4CB2-9082-0CFAEC3A5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510552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12-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India Voc. PPT due next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S.E. Asia Map TEST next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7"/>
          <p:cNvSpPr/>
          <p:nvPr/>
        </p:nvSpPr>
        <p:spPr>
          <a:xfrm>
            <a:off x="0" y="1295280"/>
            <a:ext cx="5105520" cy="283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No Focus today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“THIS WEEK” on the wiki and practice the So. East Asia Map Quiz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Sheppar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Then S.E. Asia 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Then see if you can master the TIMED quiz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When you feel confident of knowing the countries, then work on the Buddhism Mini Poster that is due TODAY at the end of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movmonk"/>
          <p:cNvPicPr/>
          <p:nvPr/>
        </p:nvPicPr>
        <p:blipFill>
          <a:blip r:embed="rId1"/>
          <a:stretch/>
        </p:blipFill>
        <p:spPr>
          <a:xfrm>
            <a:off x="1905120" y="4572000"/>
            <a:ext cx="1447560" cy="14079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1"/>
          <p:cNvSpPr/>
          <p:nvPr/>
        </p:nvSpPr>
        <p:spPr>
          <a:xfrm>
            <a:off x="0" y="6211800"/>
            <a:ext cx="510552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Buddhism Poster due TODAY at the END of class—Place in HR t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http://edu.glogster.com/media/5/22/80/59/22805997.jpg"/>
          <p:cNvPicPr/>
          <p:nvPr/>
        </p:nvPicPr>
        <p:blipFill>
          <a:blip r:embed="rId2"/>
          <a:srcRect l="5778" t="0" r="0" b="2387"/>
          <a:stretch/>
        </p:blipFill>
        <p:spPr>
          <a:xfrm>
            <a:off x="5105520" y="0"/>
            <a:ext cx="4038480" cy="350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" descr="http://www.jendhamuni.com/gImages/misunderstandingBuddhism.jpg"/>
          <p:cNvPicPr/>
          <p:nvPr/>
        </p:nvPicPr>
        <p:blipFill>
          <a:blip r:embed="rId3"/>
          <a:srcRect l="0" t="4589" r="0" b="0"/>
          <a:stretch/>
        </p:blipFill>
        <p:spPr>
          <a:xfrm>
            <a:off x="6019920" y="3467160"/>
            <a:ext cx="2209680" cy="3390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http://www.buddhanet.net/e-learning/buddhistworld/images/bangladesh_monks.jpg"/>
          <p:cNvPicPr/>
          <p:nvPr/>
        </p:nvPicPr>
        <p:blipFill>
          <a:blip r:embed="rId4"/>
          <a:stretch/>
        </p:blipFill>
        <p:spPr>
          <a:xfrm>
            <a:off x="0" y="4191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2" descr="http://www2.pictures.gi.zimbio.com/Indonesia%2BCommemorates%2BBuddha%2BBirthday%2B8IuR6Oq2RZVl.jpg"/>
          <p:cNvPicPr/>
          <p:nvPr/>
        </p:nvPicPr>
        <p:blipFill>
          <a:blip r:embed="rId5"/>
          <a:srcRect l="0" t="0" r="34878" b="0"/>
          <a:stretch/>
        </p:blipFill>
        <p:spPr>
          <a:xfrm>
            <a:off x="3505320" y="4187880"/>
            <a:ext cx="190476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21:25:21Z</dcterms:created>
  <dc:creator>sramsey</dc:creator>
  <dc:description/>
  <dc:language>en-US</dc:language>
  <cp:lastModifiedBy>poweruser</cp:lastModifiedBy>
  <dcterms:modified xsi:type="dcterms:W3CDTF">2011-12-02T13:46:35Z</dcterms:modified>
  <cp:revision>48</cp:revision>
  <dc:subject/>
  <dc:title>Slide 1</dc:title>
</cp:coreProperties>
</file>